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86BE-8854-4A70-8223-5C676BB4D2A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8C3E-3C85-4544-930B-C770FA5D991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54EB-A323-42B4-8676-C87A7D12AEC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159-79AE-4F3D-BE2A-8FE5E095E24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902-991E-446D-AC50-D3D5445091B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4E77-D9BC-4284-937A-CFD48A7669F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6649-15C4-41B3-BD86-D909E3BBD11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65F1-0994-49D6-8A6A-865571C49EB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C59D-FDCE-4FA7-ADE8-EA243C8C476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6823-A60E-4918-B938-5DBF8311716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8F98-3727-484F-9605-5C25E111496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1C7F-3867-4135-B2B1-544CBD45087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9CC4-A45A-49B8-A379-46D91192274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0D9C-C13C-422F-80A2-B7CC5A3EA90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50FE-E38C-4433-B6A1-E2DF75C1E9C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8B7F-5622-45BF-8F46-7F037032861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D559-9483-4C8F-A92C-710C0BBC84E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BCA6-A16A-4829-871A-9EA3DFDA4F1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25C0-3639-49EB-8EC0-A400D978F81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DC29-41C7-4EA2-8841-5CBA636E268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710E-8C74-4372-AE24-341FC4BF227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BC25-E8E7-482E-B737-2A44F03CFC7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2A1-7358-4D99-9B72-06B055909AA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B32-D1CB-48BF-9818-F52CDDAE3DB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5B7E-964C-4CF4-B7AA-F9E353D3383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D2AB-F7D2-4A9A-BADC-35E06C342BE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2639-9E28-4D59-9263-7F395CA27E5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4588-5ECD-4C78-B0E6-2DFD83F8A3C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1788-080A-4AAD-85E1-A13B825C89F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1E61-64EE-4A86-9888-D84D2E61860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A52-7CB9-4BF3-BE54-06B62517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E68-852A-47EC-A139-C2410F77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826-0934-4773-B51F-2ED1E6D8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FD2-BEA2-41AE-A6F5-88DC337D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A4D-21C5-4DE9-8826-9186099D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7B2-BD17-44E4-87F4-031CB46D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679-BA50-4FD8-8193-AD683EB7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21E-AFC1-4B4E-A025-6828E2B6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F65-FC50-4D32-95E3-A4B284B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1E6-10B1-467F-AD90-3148AAEB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58D-F056-49B6-B22A-43D75C1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EFD-58E6-43BE-8405-01904101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http://mx.wrs.yahoo.com/_ylt=A0S0zvkF_kVOs3kAhdLO8Qt./SIG=133ot98b0/EXP=1313238661/**http%3a/www.blueskiesmusic.net/sitebuilder/images/Blue_background_2-1184x757.jpg"/>
          <p:cNvPicPr/>
          <p:nvPr/>
        </p:nvPicPr>
        <p:blipFill>
          <a:blip r:embed="rId2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78AD-1F58-42FD-825A-0916D6CE2DD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5 Marcador de número de diapositiva"/>
          <p:cNvSpPr/>
          <p:nvPr/>
        </p:nvSpPr>
        <p:spPr>
          <a:xfrm>
            <a:off x="6705720" y="6093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esentación elaborada por Enrique Lepe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Calibri"/>
              </a:rPr>
              <a:t>Principales cambios en el Currículum 2011</a:t>
            </a:r>
            <a:endParaRPr b="1" lang="en-US" sz="5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f0"/>
                </a:solidFill>
                <a:latin typeface="Calibri"/>
              </a:rPr>
              <a:t>Enrique Lepe Garcí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2 Subtítulo"/>
          <p:cNvSpPr/>
          <p:nvPr/>
        </p:nvSpPr>
        <p:spPr>
          <a:xfrm>
            <a:off x="2268360" y="55897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equisquiapan, Qro., 13 de agosto d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000"/>
                </a:solidFill>
                <a:latin typeface="Calibri"/>
              </a:rPr>
              <a:t>Los campos de formación para la Educación Básica son:</a:t>
            </a:r>
            <a:endParaRPr b="1" lang="en-US" sz="40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Lenguaje y comunicación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ensamiento matemático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Exploración y comprensión del mundo natural y social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esarrollo personal y para la convivencia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000"/>
                </a:solidFill>
                <a:latin typeface="Calibri"/>
              </a:rPr>
              <a:t>VI.1 Campo de formación: Lenguaje y comunicación</a:t>
            </a:r>
            <a:endParaRPr b="1" lang="en-US" sz="40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1. Campo formativo: Lenguaje y comunicación en preescolar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2. Segunda Lengua: Inglés en preescolar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3. Español en primaria y secundari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4. Lengua Indígena en primaria para las escuelas de educación indígen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5. Segunda Lengua: Inglés en primaria y secundari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090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67000" y="1447920"/>
            <a:ext cx="6210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86080" y="1347840"/>
            <a:ext cx="6172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AMBIOS EN LOS PROGRAMAS DE ESPAÑOL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b0f0"/>
                </a:solidFill>
                <a:latin typeface="Calibri"/>
              </a:rPr>
              <a:t>REVISIÓN GENERA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000"/>
                </a:solidFill>
                <a:latin typeface="Calibri"/>
              </a:rPr>
              <a:t>XI.2.1. Estándares de Español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Calibri"/>
              </a:rPr>
              <a:t>Los Estándares Curriculares de Español integran los elementos que permiten a los estudiantes de Educación Básica usar con eficacia el lenguaje como herramienta de comunicación y para seguir aprendiendo. </a:t>
            </a:r>
            <a:endParaRPr b="1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Calibri"/>
              </a:rPr>
              <a:t>Se agrupan en cinco componentes, cada uno de ellos refiere y refleja aspectos centrales de los programas de estudio:</a:t>
            </a:r>
            <a:endParaRPr b="1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Procesos de lectura e interpretación de text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Producción de textos escrit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Producción de textos orales y participación en eventos comunicativ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Conocimiento de las características, función y uso del lenguaje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Actitudes hacia el lenguaje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Estándares 2º periodo (1º a 3º)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Al concluir este periodo escolar los estudiantes habrán iniciado un proceso de </a:t>
            </a:r>
            <a:r>
              <a:rPr b="1" lang="es-MX" sz="1800" spc="-1" strike="noStrike">
                <a:solidFill>
                  <a:srgbClr val="ffff00"/>
                </a:solidFill>
                <a:latin typeface="Calibri"/>
              </a:rPr>
              <a:t>contacto formal con el lenguaje escrito, por medio de la exploración de textos con diferentes características</a:t>
            </a: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: libros, periódicos e instructivos, entre otros. Construyen el significado de la escritura y su utilidad para comunicar. Comienzan el trazo de letras, hasta lograr escribir su nombre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Como parte de este desarrollo, participan en eventos comunicativos orales en los que escuchan a otros y respetan turnos para tomar la palabra, lo cual constituye logro para su edad. Adicionalmente, identifican que las personas se comunican por medio de lenguas diferentes a la suya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Lo anterior permite generar las bases para conformar un concepto positivo de sí mismos como hablantes, lectores y escritores; aspectos esenciales para su integración a la cultura escrita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Procesos de lectura e interpretación de textos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Selecciona textos de acuerdo con sus propios intereses y/o propósit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2. Interpreta la lectura de textos literarios elementales (cuentos, leyendas, poemas), así como de textos informativ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3. Interpreta que los textos escritos y las imágenes crean un significado al conjuntarse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4. Identifica los diversos propósitos de textos literarios (por ejemplo, cuentos) y de textos informativ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5. Identifica los diferentes tipos de información contenida en textos escritos elementales, tales como ilustraciones, gráficas y mapa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6. Identifica las diferentes partes de un libro; por ejemplo, la portada, el título, el subtítulo, la contraportada, las ilustraciones (imágenes), el índice y los números de página y explica, con apoyo, qué información ofrecen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7. Compara y contrasta información factual contenida en los libros con experiencias propia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8. Comprende instructivos elementales que incorporan imágenes; por ejemplo, recetas o procedimientos para construir objet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9. Identifica la escritura convencional de los númer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AMBIOS EN EL PROGRAMA DE ESPAÑOL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b0f0"/>
                </a:solidFill>
                <a:latin typeface="Calibri"/>
              </a:rPr>
              <a:t>ESTRUCTURA DEL PROGRAM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66840" y="314280"/>
            <a:ext cx="48103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01640" y="0"/>
            <a:ext cx="74692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582560" y="0"/>
            <a:ext cx="6032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46c0a"/>
                </a:solidFill>
                <a:latin typeface="Calibri"/>
              </a:rPr>
              <a:t>COMPARACIÓN DE LA ESTRUCTURA DE LOS PROGRAMAS DE ESPAÑOL</a:t>
            </a:r>
            <a:endParaRPr b="1" lang="en-US" sz="40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2d050"/>
                </a:solidFill>
                <a:latin typeface="Calibri"/>
              </a:rPr>
              <a:t>TRABAJO EN EQUIPOS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8344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61960" y="1019160"/>
            <a:ext cx="8020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e46c0a"/>
                </a:solidFill>
                <a:latin typeface="Calibri"/>
              </a:rPr>
              <a:t>Lo que no cambia (ni cambiará)</a:t>
            </a:r>
            <a:endParaRPr b="1" lang="en-US" sz="72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b0f0"/>
                </a:solidFill>
                <a:latin typeface="Calibri"/>
              </a:rPr>
              <a:t>En el aprendizaje del Lenguaj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ómo se aprende el lenguaje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Cuando se interactúa con los textos para buscar significados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Cuando se interactúa con otros, en contextos reales y con propósitos auténticos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Cuando se usa el lenguaje del contexto real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ómo se aprende el lenguaje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pic>
        <p:nvPicPr>
          <p:cNvPr id="93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ómo aprenden a leer y a escribir los niños…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ocer las etapas por las que transitan los alumnos en la apropiación del sistema de escritura constituye una herramienta para los docentes de primer y segundo grados, pues proporciona referentes sobre sus procesos de aprendizaje, así como elementos para su intervención durante el desarrollo y planificación de los proyectos didácticos”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99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Calibri"/>
              </a:rPr>
              <a:t>p. 40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11280" y="44280"/>
            <a:ext cx="7489800" cy="244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7640" y="2454120"/>
            <a:ext cx="7453440" cy="4359600"/>
          </a:xfrm>
          <a:prstGeom prst="rect">
            <a:avLst/>
          </a:prstGeom>
          <a:ln w="0">
            <a:noFill/>
          </a:ln>
        </p:spPr>
      </p:pic>
      <p:sp>
        <p:nvSpPr>
          <p:cNvPr id="98" name="3 Rectángulo"/>
          <p:cNvSpPr/>
          <p:nvPr/>
        </p:nvSpPr>
        <p:spPr>
          <a:xfrm>
            <a:off x="7818480" y="6237360"/>
            <a:ext cx="11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99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p. 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249120" y="249120"/>
            <a:ext cx="5132160" cy="653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432320" y="426960"/>
            <a:ext cx="479088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4562280" cy="601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73720" y="423720"/>
            <a:ext cx="45622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290680" y="423720"/>
            <a:ext cx="45626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ALGUNOS CAMBIOS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alibri"/>
              </a:rPr>
              <a:t>Se incluyen los Estándares Curricular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alibri"/>
              </a:rPr>
              <a:t>Durante el ciclo escolar 2011-2012 se implementará una boleta de transición en primaria y secundaria, en la que se incorporan Estándares de Habilidad Lectora y el criterio </a:t>
            </a:r>
            <a:r>
              <a:rPr b="1" i="1" lang="es-MX" sz="3000" spc="-1" strike="noStrike">
                <a:solidFill>
                  <a:srgbClr val="ffffff"/>
                </a:solidFill>
                <a:latin typeface="Calibri"/>
              </a:rPr>
              <a:t>Aprobado con condiciones. La aplicación de esta boleta reconoce la necesidad de realizar registros </a:t>
            </a:r>
            <a:r>
              <a:rPr b="1" lang="es-MX" sz="3000" spc="-1" strike="noStrike">
                <a:solidFill>
                  <a:srgbClr val="ffffff"/>
                </a:solidFill>
                <a:latin typeface="Calibri"/>
              </a:rPr>
              <a:t>que permitan trazar trayectos de atención personalizada para los estudiant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MAPA CURRICULAR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El mapa curricular de la Educación Básica se representa por espacios organizados en cuatro campos de formación, que permiten visualizar de manera gráfica la articulación Curricular</a:t>
            </a: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En el mapa curricular puede observarse de manera horizontal, la secuencia y gradualidad de las asignaturas que constituyen la Educación Básica. </a:t>
            </a: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La organización vertical en periodos escolares indica la progresión de los Estándares Curriculares de Español, Matemáticas, Ciencias, Segunda Lengua: Inglés y Habilidades Digitales.</a:t>
            </a: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6818" t="5845" r="8803" b="0"/>
          <a:stretch/>
        </p:blipFill>
        <p:spPr>
          <a:xfrm>
            <a:off x="755640" y="0"/>
            <a:ext cx="712944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424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00:33:35Z</dcterms:created>
  <dc:creator>ENRIQUE LEPE</dc:creator>
  <dc:description/>
  <dc:language>en-US</dc:language>
  <cp:lastModifiedBy>Enrique Lepe</cp:lastModifiedBy>
  <dcterms:modified xsi:type="dcterms:W3CDTF">2011-08-13T13:20:30Z</dcterms:modified>
  <cp:revision>8</cp:revision>
  <dc:subject/>
  <dc:title>Diapositiva 1</dc:title>
</cp:coreProperties>
</file>